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5188-BEDA-4236-A63D-AD63968A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586B-19A5-4551-8ADC-FDFC734D6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B3AE-3C3F-4CA2-AC6A-4A4351A3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F562-B809-41DA-BE48-B8D565D0E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8BA9-B1B6-4B0B-A828-EDCC73474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907-F5B6-4172-A9DA-EC24A125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980-7E4C-4651-9FD5-B5C35C16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F9D-E8B7-4B42-A7D4-4F5C41CC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69B-BA68-4A3F-B78E-9E170C40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C93-6125-497A-BBE9-66FFE958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6891-BAF3-49A2-910A-584600B6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DCD-DF95-4547-9372-817F539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7A1B-8AD1-4F74-A2D4-3F9A06E2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160A-F7F9-44C0-96F6-7AE5D604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21B8-32E7-408D-A2AC-12C0108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E8F-CB3A-44AE-A3F5-CEBCA30A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131-CCC5-4738-975C-90B9A8B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B5C-133B-41CB-B6AC-B140A213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8EAD-E974-4042-BC9F-80A0760F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9105-20A6-4026-97F5-1712D4C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62BD-843E-44C5-B3E4-C47A3C96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2EFD-567A-4F55-BEE1-15B225E8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1FAE-EC5A-48E9-97FB-E08A4F04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F4D-FAF3-4431-8CB7-703A667F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1B4-8AE1-4686-94D6-1DB64AF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C25-F8DA-40BA-B511-1CE1697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FB2-4D7C-493D-9310-27470D73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BDE-0FCD-4B43-8BC1-FC8D10A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C0F-E943-495C-9E85-7348098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72A-C29B-479A-9AC9-8D30BC2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3D3-897F-4AAB-ACCE-A264B19D42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2B74-0F3B-4DE2-BA8E-D509610CEF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19209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.E.A.M.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fy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ation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roache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Pythagorean Theorem</a:t>
            </a:r>
            <a:br>
              <a:rPr sz="4000"/>
            </a:b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(Simplified)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“C” is not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number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Squar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“C” i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(Big Number –Small Numb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Squar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Slope-Standard Form to Y = (Slope-Intercept)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Algebraic Method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y + 26 = -6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tep 1: Subtract both sides by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tep 2: Divide both sides by 2 to get y by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tep 3: Simplify all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895480" y="510552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times too many steps confuse students and by simplifying the steps it improves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STANDING 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andard to Slope-Intercept </a:t>
            </a:r>
            <a:br>
              <a:rPr sz="3600"/>
            </a:b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(Simplified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term that is beside the “y” term to the opposite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            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           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all of the terms except the term with y by the coefficient in the front of “y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-term and consta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the x term and the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3"/>
          <p:cNvSpPr/>
          <p:nvPr/>
        </p:nvSpPr>
        <p:spPr>
          <a:xfrm>
            <a:off x="4800600" y="2666880"/>
            <a:ext cx="8380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4"/>
          <p:cNvSpPr/>
          <p:nvPr/>
        </p:nvSpPr>
        <p:spPr>
          <a:xfrm>
            <a:off x="4876920" y="3200400"/>
            <a:ext cx="8380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andard to Slope Intercept Example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 6y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 the sign of 4x to -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 + 6y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vide -4x and 10 by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/6 and 10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 y = and 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2/3x + 5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Finding the Equation of a Line (Simplified) 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he slope (m) times the x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sign of your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y-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in y =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Using the steps to solve for “b”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2514240"/>
            <a:ext cx="1600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267080" y="2057400"/>
            <a:ext cx="4876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(x) = 2(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sign of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hanges to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dd 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 + 4 = -2  This is your  “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Rewrite y = mx +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 –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Finding the Distance (Simplified) 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Find the slope of the two points (DO NOT SIMPLIF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Take the numerator and denominator and use the Pythagorean Theor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AM Meth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WORK !!!!!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Questions ???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Kirk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.kirkley@cms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rina Ba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rina.barnes@cms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.scott@cms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.gist@cms.k12.nc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37:09Z</dcterms:created>
  <dc:creator>david.scott</dc:creator>
  <dc:description/>
  <dc:language>en-US</dc:language>
  <cp:lastModifiedBy>pete</cp:lastModifiedBy>
  <dcterms:modified xsi:type="dcterms:W3CDTF">2011-10-25T23:16:19Z</dcterms:modified>
  <cp:revision>42</cp:revision>
  <dc:subject/>
  <dc:title>Slide 1</dc:title>
</cp:coreProperties>
</file>